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ACD0-7901-44DE-8E51-19E27932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BA12-0294-4A86-8BF1-0A9946CBF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F1EB-04C7-44B3-98CB-F9E1B4866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4A74-DB9A-4096-8CA8-18F14EFE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AAA3-400E-468D-894D-E0B18535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094B-9E13-44B4-B43F-171DA1E4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6EB8-F4C8-4023-AC6C-555A9BF2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063C-BE0A-4875-ADC6-670DE2D1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5AF-C5F4-421D-8C68-6BC01E68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75EE-EA72-4CC7-BD98-687133E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34C0-4F8F-4564-9F7C-CD50FB87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8063-E48E-4314-96C4-8F192AC4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BAB-464B-4BC3-896C-B90F5C4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C60B-4AE5-4BF4-AF49-05732A6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2C4C-0C08-4D04-8980-0A6B43B0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37BF-BBBE-4D1B-ABB2-A39F601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6EBD-F483-43D3-B7AC-CD203E3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6A3-4C52-4A34-8C6C-F93FFC77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23B5-F54F-4AEE-8776-08464E83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FB09-F685-4A7C-BF6C-B67AD22F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DEDE-50DF-4CA8-BB4C-651040A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5FA2-E9B5-431B-BB6D-33C4874E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A2AB-BF31-401A-AAAF-E04612B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7130-0B36-4799-92A3-CBB4B302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8C4A-5023-46EA-A9BB-FA4C2BB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A74F-A62C-49C1-AE82-B1D0BAB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DDCE-92EF-45E7-B690-CC69CC26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1A16-B2F5-4643-96C2-E3FDDAC56A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398-5413-402B-980C-FB6C60B04B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1999/XSL/Transfor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71840" y="1371600"/>
            <a:ext cx="5291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ACG 6415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XML and XBR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that follows roo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lements from .xml are being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provide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Elements from Instance against Template created in XS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59"/>
                </a:solidFill>
                <a:latin typeface="Arial"/>
              </a:rPr>
              <a:t>&lt;xsl:template match=“/”&gt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 = Look in entire source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UBLCatalogueCompressed.jpg"/>
          <p:cNvPicPr/>
          <p:nvPr/>
        </p:nvPicPr>
        <p:blipFill>
          <a:blip r:embed="rId1"/>
          <a:stretch/>
        </p:blipFill>
        <p:spPr>
          <a:xfrm>
            <a:off x="339840" y="1143000"/>
            <a:ext cx="846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UBL Catalogue Node Tre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429000" y="4952880"/>
            <a:ext cx="1981080" cy="9907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0" y="2666880"/>
            <a:ext cx="114300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43000" y="2666880"/>
            <a:ext cx="129528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2438280" y="2666880"/>
            <a:ext cx="129564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733920" y="2514600"/>
            <a:ext cx="1752480" cy="12193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486400" y="2590920"/>
            <a:ext cx="175248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7238880" y="2590920"/>
            <a:ext cx="190512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11"/>
          <p:cNvSpPr/>
          <p:nvPr/>
        </p:nvSpPr>
        <p:spPr>
          <a:xfrm flipH="1" flipV="1">
            <a:off x="571320" y="3504960"/>
            <a:ext cx="38480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13"/>
          <p:cNvSpPr/>
          <p:nvPr/>
        </p:nvSpPr>
        <p:spPr>
          <a:xfrm>
            <a:off x="1789920" y="3505320"/>
            <a:ext cx="262908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21"/>
          <p:cNvSpPr/>
          <p:nvPr/>
        </p:nvSpPr>
        <p:spPr>
          <a:xfrm flipV="1">
            <a:off x="4419000" y="3733920"/>
            <a:ext cx="190440" cy="12189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23"/>
          <p:cNvSpPr/>
          <p:nvPr/>
        </p:nvSpPr>
        <p:spPr>
          <a:xfrm flipV="1">
            <a:off x="4419000" y="3809520"/>
            <a:ext cx="19429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 flipV="1">
            <a:off x="4419000" y="3809520"/>
            <a:ext cx="37717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27"/>
          <p:cNvSpPr/>
          <p:nvPr/>
        </p:nvSpPr>
        <p:spPr>
          <a:xfrm flipH="1" flipV="1">
            <a:off x="3086280" y="3504960"/>
            <a:ext cx="13334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 rot="16200000">
            <a:off x="1447560" y="26668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749160" y="3846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f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20"/>
          <p:cNvSpPr/>
          <p:nvPr/>
        </p:nvSpPr>
        <p:spPr>
          <a:xfrm rot="16200000">
            <a:off x="5867280" y="28954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5397480" y="4075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ch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4038480" y="1371600"/>
            <a:ext cx="175284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5791320" y="129528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7391520" y="121932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 flipV="1">
            <a:off x="4724280" y="2285640"/>
            <a:ext cx="76320" cy="152280"/>
          </a:xfrm>
          <a:prstGeom prst="line">
            <a:avLst/>
          </a:prstGeom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transform da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HTML&gt;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ells processor transformation will use html tag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ode between &lt;HTML&gt; and &lt;/HTML&gt; code is the data to be transformed and the formatting code for the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1447920" y="685800"/>
            <a:ext cx="79246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?xml version="1.0"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ame&gt;Basketball&lt;/Na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dNumber&gt;12345&lt;/IdNumb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Cost units="USD"&gt;12.50&lt;/Cos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tailPrice units="USD"&gt;25.00&lt;/RetailPric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s and transforms/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s the value of the selected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 the end of the nod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ust point to the “node” you want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node path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ory/InventoryItem/IdNumb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/elementname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when one and only one element has th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at root and look for element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Arial"/>
              </a:rPr>
              <a:t>&lt;xsl:value-of select=“Name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-of select can use a function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-each loo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ll elements contained in a node-s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de-set is declared with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.xsl code provide instructions for what to do with selec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ransformations to ma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TML, and XSL tags combine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for-each select=“Inventory/InventoryItem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um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il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o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n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a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ize-spac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-wi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-leng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aft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befor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() fun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-number attribute has two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attern (see formatting pattern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Arial"/>
              </a:rPr>
              <a:t>&lt;xsl:value-of select =“format-number(sum(Inventory/InventoryItem/Cost),’$#.00’)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362320" y="4724280"/>
            <a:ext cx="4038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736440" y="4800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6629400" y="4800600"/>
            <a:ext cx="914400" cy="457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631560" y="48006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038480" y="41911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6934320" y="42670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ting Numb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A dig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 A digit, zero shows as abs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pref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period) Placeholder for decimal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aceholder for grouping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eparate forma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fault prefix for neg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Multiply by 100 and show as a percen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Any other characters can be used in the prefix or suff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quote special characters in a prefix or suffi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-Purpo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benefit of XML / XB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ability of Data contained in Instance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 need a method of presenting the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tion Link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cessing Remote Instance Doc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()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value-of select=“document(‘URI.xml’)”/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utput (HTML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ransformation will be to an HTML doc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Cente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ABLE BORDER = ‘1’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fines the border width for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able Hea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row in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cell in the row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lspan=“#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columns should this cell s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ign=“right, left or center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ags must be clos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fining Tables in HTM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able Border=“n”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begin making a ta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use text as heading (1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w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column in the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ose all ta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&lt;/TD&gt;, &lt;/TR&gt;, &lt;/Table&g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able with 2 rows and 3 colum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ABLE BORDER=“1”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y it’s based on XM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he data will look li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e, Repurpose, calculate, sort,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Par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ansform Instance Document to different Fo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ML, XHTML, XML (new), P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formatting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ation Requires xml code in Two Docu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ce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Prolog line linking to xslt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T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s script for selecting elements to be display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XS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880" y="434340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Xtensible Stylesheet Language –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tive XML language for processing XML documents into other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352680" y="2209680"/>
            <a:ext cx="1905120" cy="1600200"/>
          </a:xfrm>
          <a:prstGeom prst="cube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X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14400" y="16002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914400" y="312408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553080" y="22860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2133720" y="34290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5257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ing your Instance Docu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n additional prolog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your .xml to your .xsl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59"/>
                </a:solidFill>
                <a:latin typeface="Arial"/>
              </a:rPr>
              <a:t>&lt;?xml-stylesheet type=“text/xsl” href=“name.xsl”?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-styleshe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ls the processor to use the stylesheet file to format the data in the .xml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ref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ints to location of .xsl docu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(the XML code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 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 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xsl:stylesheet xmlns:xsl=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w3.org/1999/XSL/Transfor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ersion="1.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other namespaces used in the instance document (THEY MUST M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fault namespaces (e.g. without the prefix) are not allowed in XSLT v 1.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Need to make up a prefi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Scripting Co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s us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-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mul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, -, *, di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-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38:08Z</dcterms:created>
  <dc:creator> </dc:creator>
  <dc:description/>
  <dc:language>en-US</dc:language>
  <cp:lastModifiedBy>Steven Hornik</cp:lastModifiedBy>
  <dcterms:modified xsi:type="dcterms:W3CDTF">2011-06-30T12:05:04Z</dcterms:modified>
  <cp:revision>51</cp:revision>
  <dc:subject/>
  <dc:title>ACG 5405</dc:title>
</cp:coreProperties>
</file>